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10.png" ContentType="image/png"/>
  <Override PartName="/ppt/media/image35.jpeg" ContentType="image/jpeg"/>
  <Override PartName="/ppt/media/image3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C6939-E283-464E-962E-24D3CAB2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953A-5EB0-45CE-AB86-E61A600D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19B6-453E-44EC-BAB8-A66FD6B8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85EB-9D6B-42A1-91E4-D627F7CE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E468-F2FB-4235-87FC-6FE8EBEC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5706-EE90-4044-825E-B59831B9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7939-BDC3-449F-A841-D83DB21D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BEE9-C391-4FAA-B139-0D4A94CF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81F7-8A20-46E6-985E-4580E442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324F-7DC1-4CA2-AF44-25EF4C70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9A9D-4D47-419D-8836-A688537F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2E9C0-B26D-41DA-BE0A-54934C87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D9AE-0E59-46B8-AB40-D8D1B1EB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61A5-1FF6-492D-813F-FE90F438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4470-4B5C-4FE0-A1C9-20D869BD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AE0A-082F-4113-AE87-80F7FB87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0837-13E3-40B5-A9EF-0F74ECDB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984B-32D3-4B94-BA6D-2768135C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254E-ACF5-4414-8674-C94CE00E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4735-DC7D-4C84-8C48-4F9E8751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A3C4-797A-4B59-807D-290B9B14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0A734-CE7D-42CF-8D75-39827520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EA88-5C8F-488C-B934-5329A206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AB66-AD34-470F-9D21-AEDDDC79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004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C0C9-1AF9-4B92-940F-16D83466B7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004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A7D0-3A7D-426A-B47D-1B410E91BA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geovid.com/Video_mp3_Extractor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hyperlink" Target="http://www.zamzar.com/" TargetMode="External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mp4cam2avi/" TargetMode="External"/><Relationship Id="rId2" Type="http://schemas.openxmlformats.org/officeDocument/2006/relationships/hyperlink" Target="http://sourceforge.net/projects/mp4cam2avi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terrygrimm-etech.wikispaces.com/" TargetMode="Externa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terrygrimm-etech.wikispaces.com/WikiMediaYou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0" y="285588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are Better Than 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4280" y="4530600"/>
            <a:ext cx="858348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er: Terry Gri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oe_tag@access-k12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al Technology Consul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honing County Educational Service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4280" y="3608280"/>
            <a:ext cx="90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ing the Power of Free Multimedia Creation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042320" y="231840"/>
            <a:ext cx="1471320" cy="147168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6192720" y="1641600"/>
            <a:ext cx="2951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ie Ma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1641600"/>
            <a:ext cx="3149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 Story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49240" y="291960"/>
            <a:ext cx="14382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58920" y="13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oto Story T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3480" y="2703600"/>
            <a:ext cx="751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possible, avoid using low resolution images if you plan to take advantage of Photo Story’s Pan and Zoom eff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71720" y="4535640"/>
            <a:ext cx="268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 Re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20x2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60x1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300640" y="4622760"/>
            <a:ext cx="268272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Re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600x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70 x 170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21360000">
            <a:off x="394920" y="546840"/>
            <a:ext cx="456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taccato222 BT"/>
              </a:rPr>
              <a:t>Why Movie A Was Blur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ech Stills – Photo 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655640" y="159696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 rot="19856400">
            <a:off x="-142200" y="272520"/>
            <a:ext cx="20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5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ech Stills – Movie Mak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515960" y="20574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 rot="19856400">
            <a:off x="-142200" y="272520"/>
            <a:ext cx="20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19959000">
            <a:off x="0" y="1414080"/>
            <a:ext cx="30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taccato222 BT"/>
              </a:rPr>
              <a:t>Rather Static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ech – Combin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vie Maker and Photo Stor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436760" y="1847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M Newspaper Title Tri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1635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e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Hardrive &gt; Program Files &gt; Movie Maker &gt; Sha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news.png file in image editing program (e.g., Paint.net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changes and sa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493560" y="5438880"/>
            <a:ext cx="8267760" cy="12286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5"/>
          <a:stretch/>
        </p:blipFill>
        <p:spPr>
          <a:xfrm>
            <a:off x="7361280" y="165240"/>
            <a:ext cx="1782720" cy="17697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8020080" y="819000"/>
            <a:ext cx="601560" cy="50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977240" y="888840"/>
            <a:ext cx="662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Do No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Chang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69880" y="146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Changes in Paint.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264960" y="2803680"/>
            <a:ext cx="4087800" cy="30607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4991040" y="3595680"/>
            <a:ext cx="3944880" cy="29592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3524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M Newspaper Title Tri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820880" y="41371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w News Mov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2370240" y="2066760"/>
            <a:ext cx="4317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69720" y="0"/>
            <a:ext cx="8229600" cy="17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V Style Graphics – Combining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oto Story and Movie Mak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2079360"/>
            <a:ext cx="8229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the fluid background graphic with a size of something like 7200x6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3513240" y="3375000"/>
            <a:ext cx="23749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V Style Graphics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a color gradient and large lette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 this graphic into Photo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remove black bor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 default 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the duration for approximately 40 sec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6"/>
          <a:stretch/>
        </p:blipFill>
        <p:spPr>
          <a:xfrm>
            <a:off x="235080" y="5551560"/>
            <a:ext cx="871848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V Style Graphics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your Photo Story pro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save your story as a WMV f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Playback on Your Compu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s the Settings but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5"/>
          <a:stretch/>
        </p:blipFill>
        <p:spPr>
          <a:xfrm>
            <a:off x="318960" y="5423040"/>
            <a:ext cx="871884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media In the Classro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523880" y="18050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V Style Graphics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78000"/>
            <a:ext cx="822960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the size you desire for your final movie, for example, 800x6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K and then Next. Photo Story will take a few moments to create your movie f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2216160" y="3687840"/>
            <a:ext cx="50259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V Style Graphics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ing Photo Story with Movie Ma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 the Photo Story movie file into Movie Mak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g the file onto the timeline and select the cl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the tools menu, choose Titles and Credits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V Style Graphics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Title on Selected Cl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the title animation to Moving Tiles, Laye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some text, some music, and tweak until you are satisfi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4"/>
          <a:stretch/>
        </p:blipFill>
        <p:spPr>
          <a:xfrm>
            <a:off x="1847880" y="4554360"/>
            <a:ext cx="60372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ech – TV Style Graph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2087640" y="2263680"/>
            <a:ext cx="488304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pturing Audio from Video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ovie Mak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201600" y="1454040"/>
            <a:ext cx="4497480" cy="287172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4481640" y="4100400"/>
            <a:ext cx="4451400" cy="25545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 rot="2314800">
            <a:off x="3304800" y="3647880"/>
            <a:ext cx="1100160" cy="1079280"/>
          </a:xfrm>
          <a:prstGeom prst="rightArrow">
            <a:avLst>
              <a:gd name="adj1" fmla="val 50000"/>
              <a:gd name="adj2" fmla="val 25484"/>
            </a:avLst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852480" y="2144880"/>
            <a:ext cx="2760840" cy="232380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tracting Sound From Video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Free Video mp3 Extrac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74120" y="5981760"/>
            <a:ext cx="83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  <a:hlinkClick r:id="rId2"/>
              </a:rPr>
              <a:t>http://www.geovid.com/Video_mp3_Extractor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464000" y="2168640"/>
            <a:ext cx="38210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vie Maker as Compi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 separate Photo Story movies into Movie Mak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it and embellish as you wi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one movie file consisting of a compilation of several Photo Story mov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vie Maker as Extrac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69360" y="1046160"/>
            <a:ext cx="8579160" cy="58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lost the original photos used in Photo S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need to remove “nuisance” slide from a Photo Story mov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 Photo Story movie into Movie Mak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ure the original audio (music track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Split command to isolate the slide to be removed and then use Dele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te the audio embedded in the vid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 and add the captured original au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bbing Fra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only mediocr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ant to salvage what you c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 video into Movie Mak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b frames as JPE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JPEGs into Photo Story. Avoid heavy Pan and Z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4640" y="159840"/>
            <a:ext cx="855180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ate Non-Stop Soundtrac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Photo 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79520" y="180144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: Photo Story fades out music segments on multi-segment soundtra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 or record sounds into Auda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mixed soundtrack in Auda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 mp3 of soundtr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 soundtrack into Photo Story 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e Technology Indica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7880" y="1587600"/>
            <a:ext cx="845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de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velop a slide show presen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teacher assistance (e.g., small groups work together to create slides or hypermedia product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de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reate a video prod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lated to a class acti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d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ipulate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ommunication design elem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language,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ound and mo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based on intent of the message (e.g., inform or persuade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244520" y="1673280"/>
            <a:ext cx="674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183200" y="3666960"/>
            <a:ext cx="4941720" cy="31053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vasion of the Tub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992160" y="2916360"/>
            <a:ext cx="1513080" cy="6429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>
            <a:lum contrast="18000"/>
          </a:blip>
          <a:srcRect l="0" t="0" r="0" b="3685"/>
          <a:stretch/>
        </p:blipFill>
        <p:spPr>
          <a:xfrm>
            <a:off x="131760" y="3666960"/>
            <a:ext cx="3971880" cy="307368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130800" y="2865600"/>
            <a:ext cx="1398600" cy="7207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 rot="1230600">
            <a:off x="7760880" y="614520"/>
            <a:ext cx="1038240" cy="5238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 rot="20033400">
            <a:off x="358920" y="471600"/>
            <a:ext cx="1038240" cy="5238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1227240" y="1060560"/>
            <a:ext cx="6797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eos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room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e Maker and Photo Story tips and trick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version for Editing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v to Movie Maker Compatible f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44520" y="2595600"/>
            <a:ext cx="674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00320" y="1976400"/>
            <a:ext cx="62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ree Online File Conver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171360" y="3038400"/>
            <a:ext cx="2932200" cy="1249560"/>
          </a:xfrm>
          <a:prstGeom prst="rect">
            <a:avLst/>
          </a:prstGeom>
          <a:ln w="0">
            <a:noFill/>
          </a:ln>
        </p:spPr>
      </p:pic>
      <p:grpSp>
        <p:nvGrpSpPr>
          <p:cNvPr id="625" name=""/>
          <p:cNvGrpSpPr/>
          <p:nvPr/>
        </p:nvGrpSpPr>
        <p:grpSpPr>
          <a:xfrm>
            <a:off x="152280" y="4983120"/>
            <a:ext cx="2908440" cy="1246320"/>
            <a:chOff x="152280" y="4983120"/>
            <a:chExt cx="2908440" cy="1246320"/>
          </a:xfrm>
        </p:grpSpPr>
        <p:sp>
          <p:nvSpPr>
            <p:cNvPr id="626" name=""/>
            <p:cNvSpPr/>
            <p:nvPr/>
          </p:nvSpPr>
          <p:spPr>
            <a:xfrm>
              <a:off x="152280" y="4983120"/>
              <a:ext cx="2908440" cy="124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162000" y="5210280"/>
              <a:ext cx="2019240" cy="94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/>
          <p:cNvSpPr/>
          <p:nvPr/>
        </p:nvSpPr>
        <p:spPr>
          <a:xfrm>
            <a:off x="2304720" y="4975200"/>
            <a:ext cx="665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a-Conver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ww.media-convert.c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676960" y="3026160"/>
            <a:ext cx="595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amza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eaeaea"/>
                </a:solidFill>
                <a:uFillTx/>
                <a:latin typeface="Arial"/>
                <a:hlinkClick r:id="rId3"/>
              </a:rPr>
              <a:t>www.zamzar.co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348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verter – mp4 to AV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244520" y="1673280"/>
            <a:ext cx="674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251000" y="1987200"/>
            <a:ext cx="64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  <a:hlinkClick r:id="rId1"/>
              </a:rPr>
              <a:t>MP4Cam2AVI Easy Conver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440000" y="6195960"/>
            <a:ext cx="627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aeaea"/>
                </a:solidFill>
                <a:uFillTx/>
                <a:latin typeface="Arial"/>
                <a:hlinkClick r:id="rId2"/>
              </a:rPr>
              <a:t>http://sourceforge.net/projects/mp4cam2av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3"/>
          <a:stretch/>
        </p:blipFill>
        <p:spPr>
          <a:xfrm>
            <a:off x="2392200" y="2687760"/>
            <a:ext cx="4384800" cy="33480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 rot="20832600">
            <a:off x="54000" y="438120"/>
            <a:ext cx="504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taccato222 BT"/>
              </a:rPr>
              <a:t>Another Conversion Solu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0" y="1187280"/>
            <a:ext cx="6226200" cy="4670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vie Maker Creative Fun P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41360" y="6234120"/>
            <a:ext cx="79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icrosoft.com/windowsxp/downloads/powertoys/mmcreate.m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154080" y="1181160"/>
            <a:ext cx="2328840" cy="174636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3"/>
          <a:stretch/>
        </p:blipFill>
        <p:spPr>
          <a:xfrm>
            <a:off x="3218040" y="1251000"/>
            <a:ext cx="2508120" cy="188100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4"/>
          <a:stretch/>
        </p:blipFill>
        <p:spPr>
          <a:xfrm>
            <a:off x="155520" y="4586400"/>
            <a:ext cx="4726080" cy="153036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5"/>
          <a:stretch/>
        </p:blipFill>
        <p:spPr>
          <a:xfrm>
            <a:off x="6043680" y="1973160"/>
            <a:ext cx="2543040" cy="116208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6"/>
          <a:stretch/>
        </p:blipFill>
        <p:spPr>
          <a:xfrm>
            <a:off x="5305320" y="3867120"/>
            <a:ext cx="38386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998640"/>
            <a:ext cx="9021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ood Luck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4280" y="4087800"/>
            <a:ext cx="7978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are Better Than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y Gri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al Technology Consul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honing County Educational Service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5400" y="274320"/>
            <a:ext cx="89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cial Studies Standard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kills and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65280" y="1587600"/>
            <a:ext cx="8192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dents collect, organize, evaluate, and synthesize information from multiple sources to draw logical conclusions.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Students communicate this inform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using appropriate social studies terminology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ral, written, or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multimedi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for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apply what they have learned to societal issues in simulated or real-world sett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1009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rygrimm-etech.wikispaces.c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al Space at Wikispa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2280" y="2254320"/>
            <a:ext cx="8764560" cy="345744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179360" y="6119640"/>
            <a:ext cx="64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  <a:hlinkClick r:id="rId2"/>
              </a:rPr>
              <a:t>http://terrygrimm-etech.wikispaces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rygrimm-etech.wikispaces.c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9237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kiMedia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609480" y="2062080"/>
            <a:ext cx="7991640" cy="38847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07280" y="6083280"/>
            <a:ext cx="88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  <a:hlinkClick r:id="rId2"/>
              </a:rPr>
              <a:t>http://terrygrimm-etech.wikispaces.com/WikiMediaYou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20832600">
            <a:off x="2718000" y="3876840"/>
            <a:ext cx="456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taccato222 BT"/>
              </a:rPr>
              <a:t>Your chance to collaborat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ris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oto S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ll Images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 and Zoom (Ken Burns Effec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Tit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vie Mak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e Clips and St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an and Z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Choices for Tit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531800" y="5756400"/>
            <a:ext cx="56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th produce movie fi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20331000">
            <a:off x="2386080" y="4659120"/>
            <a:ext cx="888840" cy="974520"/>
          </a:xfrm>
          <a:prstGeom prst="downArrow">
            <a:avLst>
              <a:gd name="adj1" fmla="val 50000"/>
              <a:gd name="adj2" fmla="val 2741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1304400">
            <a:off x="5063760" y="4663800"/>
            <a:ext cx="888840" cy="974520"/>
          </a:xfrm>
          <a:prstGeom prst="downArrow">
            <a:avLst>
              <a:gd name="adj1" fmla="val 50000"/>
              <a:gd name="adj2" fmla="val 2741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oto Story T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09640" y="1082520"/>
            <a:ext cx="75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– Movi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698480" y="20131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oto Story T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09640" y="1082520"/>
            <a:ext cx="75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– Movi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1576440" y="20829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20:02:38Z</dcterms:created>
  <dc:creator>mcoe_tag</dc:creator>
  <dc:description/>
  <dc:language>en-US</dc:language>
  <cp:lastModifiedBy>MCESC</cp:lastModifiedBy>
  <dcterms:modified xsi:type="dcterms:W3CDTF">2008-02-07T19:14:45Z</dcterms:modified>
  <cp:revision>182</cp:revision>
  <dc:subject/>
  <dc:title>Slide 1</dc:title>
</cp:coreProperties>
</file>